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333-F2DA-4006-AA7C-4EC19FE7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619C-2D30-43F4-BC6C-5145D1B7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302D-40FB-49CD-904D-2F9D1EA6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942-9942-4A6F-8EDC-BD5BC73F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A4CD-3B91-4C72-A3AA-7567432D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6293-EA1C-4AE3-BF63-1961FD4E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F62F-B853-4936-B6FF-55EBCEE0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C886-6BDC-4ECB-89A9-9D00407C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DD06-D5A2-4155-8CA5-295C9381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0287-0E94-4E05-8133-8C8A93AE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759E-4910-479B-8912-83D42D43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A3B-24B2-4D1F-8C82-794CAB73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D789-5F31-4A73-ABFF-6D9A17A0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2ED9-E00C-4798-95BA-8E47893B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2D61-2C87-4F0A-A247-11ED6DD9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F305-1E43-4240-894B-4A7BF0A7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2AB4-D576-4897-B6FF-78F637E6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FD5D-27DA-437A-BA73-A4CACCC2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464-D1E4-4AAE-94BA-51338D23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8A7-59D3-4BA0-A669-9630AACB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E79-0576-4199-BB4B-3F718D11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35F-FBFC-48E2-B765-6D84B27E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8FCA-1965-4F5C-8D60-26D9CD6F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8934-46B0-4170-B3F8-446F08A8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1515-6285-4D14-A1D0-732E2CAF31D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4741-14B1-4D52-AA00-9CED782BEB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723F-C895-465E-8F84-EDE7286FAA4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7EC5-702C-4BD7-8BE8-BECBD4D148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ounded Rectangle 4"/>
          <p:cNvSpPr/>
          <p:nvPr/>
        </p:nvSpPr>
        <p:spPr>
          <a:xfrm>
            <a:off x="609480" y="140184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5"/>
          <p:cNvSpPr/>
          <p:nvPr/>
        </p:nvSpPr>
        <p:spPr>
          <a:xfrm>
            <a:off x="851040" y="16383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Isosceles Triangle 11"/>
          <p:cNvSpPr/>
          <p:nvPr/>
        </p:nvSpPr>
        <p:spPr>
          <a:xfrm rot="5400000">
            <a:off x="2034000" y="178020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3657600" y="169920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IMIENPHI.V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1371600" y="158364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2924640" y="152280"/>
            <a:ext cx="32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AIMIENPHI.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6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ounded Rectangle 6"/>
          <p:cNvSpPr/>
          <p:nvPr/>
        </p:nvSpPr>
        <p:spPr>
          <a:xfrm>
            <a:off x="609480" y="2286000"/>
            <a:ext cx="716292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7732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1266840" y="246960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sosceles Triangle 24"/>
          <p:cNvSpPr/>
          <p:nvPr/>
        </p:nvSpPr>
        <p:spPr>
          <a:xfrm rot="5400000">
            <a:off x="2034720" y="2660400"/>
            <a:ext cx="146160" cy="127080"/>
          </a:xfrm>
          <a:prstGeom prst="triangle">
            <a:avLst>
              <a:gd name="adj" fmla="val 50000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6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7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ounded Rectangle 8"/>
          <p:cNvSpPr/>
          <p:nvPr/>
        </p:nvSpPr>
        <p:spPr>
          <a:xfrm>
            <a:off x="609480" y="317340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7732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1266840" y="334728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21"/>
          <p:cNvSpPr/>
          <p:nvPr/>
        </p:nvSpPr>
        <p:spPr>
          <a:xfrm rot="5400000">
            <a:off x="2034000" y="354384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24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5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6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ounded Rectangle 9"/>
          <p:cNvSpPr/>
          <p:nvPr/>
        </p:nvSpPr>
        <p:spPr>
          <a:xfrm>
            <a:off x="609480" y="405756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7732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Isosceles Triangle 11"/>
          <p:cNvSpPr/>
          <p:nvPr/>
        </p:nvSpPr>
        <p:spPr>
          <a:xfrm rot="5400000">
            <a:off x="2034000" y="442008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3"/>
          <p:cNvSpPr/>
          <p:nvPr/>
        </p:nvSpPr>
        <p:spPr>
          <a:xfrm>
            <a:off x="1266840" y="422388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25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ounded Rectangle 10"/>
          <p:cNvSpPr/>
          <p:nvPr/>
        </p:nvSpPr>
        <p:spPr>
          <a:xfrm>
            <a:off x="609480" y="4941720"/>
            <a:ext cx="716292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15"/>
          <p:cNvSpPr/>
          <p:nvPr/>
        </p:nvSpPr>
        <p:spPr>
          <a:xfrm>
            <a:off x="7732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Isosceles Triangle 11"/>
          <p:cNvSpPr/>
          <p:nvPr/>
        </p:nvSpPr>
        <p:spPr>
          <a:xfrm rot="5400000">
            <a:off x="2034000" y="530928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3"/>
          <p:cNvSpPr/>
          <p:nvPr/>
        </p:nvSpPr>
        <p:spPr>
          <a:xfrm>
            <a:off x="1266840" y="512316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21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25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04:19:13Z</dcterms:created>
  <dc:creator>dell</dc:creator>
  <dc:description/>
  <dc:language>en-US</dc:language>
  <cp:lastModifiedBy>MavisVermillion</cp:lastModifiedBy>
  <dcterms:modified xsi:type="dcterms:W3CDTF">2016-05-16T08:52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